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09D-4226-45FE-BC63-531195C4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C86-5F0B-4F07-9A84-20BCDB3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4A17-7AFE-4839-B6CA-4B9929C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BCFC-7A1F-4A87-8016-B7E0D0BC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8ABD-0A4F-4724-B750-FC991DD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556C6-AB3A-42FB-BAF2-7C60527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2AC1C-F0E4-42C7-8653-5EE9ECE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A5850-C579-4D86-A48E-7894754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61B9-9C5B-4711-8D16-DC79C40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A70F-5F9D-48B7-9F21-03692EDF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4D756-1981-4847-A88E-E7265C6E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75DA3-0394-4CF2-8243-DAF0FE6E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F2F-6C00-4BB9-99AA-B9BFC7B0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80CAE-9E29-4FE5-83E8-743D2887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8974-40E3-44A7-B054-BA294DA1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B922A-1EE6-4F8A-B042-32A7F3B5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BCF75-4876-4EEE-B32A-A00D6C34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0BFB7-426E-4D6B-AFCD-4027304A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2328-791E-4D79-98E2-D971D96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9FD1-C42E-4176-B2B0-B71CC3B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19863-E5A6-4A56-81C0-2A9D61D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D549D-027B-4A19-823E-054BC3A8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6F03F-2899-4C82-AD0C-C224332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157-356E-4B84-8D8F-02F9E71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BFED3-6D6B-4100-99AE-B7E7409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15FD6-2CFD-4EBA-808C-D822D7C4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EB383-EE61-44B3-8042-BE1D3F3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756D-DB90-4767-84E4-AC5825D1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12269-0FA9-40F6-8B38-7F84FBDA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EC3B0-5298-48A5-8822-42F1CD3E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3817C-2747-4F66-97C7-37FD8278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4BF8E-0D04-4759-8E04-E76B734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EDC70-4EF1-481C-96B7-721EBD5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B2EC8-A30B-4148-97E0-C3E3AEA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A04E-9577-47E6-8CD6-99DCD690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725E1-6ED1-446F-AA9D-8B94B8D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0E724-F834-4694-80A7-9FEA55AE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4E220-7B55-4F16-A0EF-F553E7EB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ADCD2-1729-4731-8BD0-EBBDC8DC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C3020-9197-4F6F-B555-E330B9DF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BF80-FD02-4882-BDC7-5ED5675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D4093-C031-4A09-8505-1D7E5B8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2F8ED-2CD6-4064-AF08-3ED5719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F662-0D66-40B0-A9A4-F56EB73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BE8E3-0FD6-4E3C-80C7-B99DE176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C95-37E0-4C09-B198-7D5AB8F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B04F0-AB0F-4B58-8A2E-24324AB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22D83-8FF7-477E-8F9D-CD7862F9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A8E6F-D2D3-4FF1-BB7F-772720D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D387-6644-45E7-AD59-0963E168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70BEF-F277-4A4C-9595-9E1FDD35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4FA53-223B-45B3-99D8-EFF941D9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31B90-2A58-4DE6-9BED-F0C3C56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52858-72CF-45AB-8B79-46A28A98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4B0DF-ECD4-4F8F-9C06-CBFDAE8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7CC8B-A6CF-44A5-AD0F-9A5E2172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355-5031-4363-8DD8-15F38D13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F743F-7840-4A7E-A9EC-8CEBFA5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3F0F5-C224-4C2D-B904-F3FD0E1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0A111-2718-4306-A572-7AC4E5E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9E991-4748-43ED-9C5F-AFD140C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E4A2F-8B93-4B8A-BE60-16823DB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EF7FD-85FF-425B-AD18-7DD92967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1D19-F04E-49D9-93D2-BAF8D2E2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60D29-9446-4F88-8D5F-6C550D48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33C6F-434B-4249-AC74-E8E30763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5D386-0084-44E7-BB22-B3FEE8E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E64-6419-43DC-83E5-44DB3CF5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0DF9E-49B6-4FA3-8E12-734782E0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82E87-A76E-46BD-9407-154F989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DAD77-4E97-4D0B-9BC3-B3655C6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92E83-39BC-49E9-AAC1-A947C1D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5CEF2-1CAB-440D-8AF4-FA01E27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E8739-283B-4FC4-BEC7-A23AC49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6A582-C867-409D-925F-385362B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35004-0B4F-42ED-A511-53637FD3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205C5-9EC1-49D4-8D91-4CBE578D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EABA9-72D1-4B75-9516-9D63ED8A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B977-5331-4F89-A5CF-C5E1BBC4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84F93-5632-4944-86B5-ADACD81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6ACAE-641D-4546-BCC6-0D978970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FF7E4-141D-46C7-93A1-2A9D1986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6AAC0-DF0B-4AA2-B263-2597292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26D18-FE5D-4D93-9D8A-9CAFB566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6D7CB-98B7-499D-B7DC-8CE0D5D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7313E-174E-4610-8632-D67472E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D3BFB-B4D8-43FC-AE26-FA50FFF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DE2AA-6407-4362-8E07-0ABC0CD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9D3C0-85EE-4BD4-9DAB-62DB3D7E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4F8-075E-49E6-9833-98C1CE88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F63DA-CD73-4980-8D04-28D6A18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0D09-3C2D-4E0F-B99B-60F7FBBD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D8664-D077-4688-B760-BF17371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B0792-F77C-478F-A755-907424C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0F43D-6CF4-434E-AB79-C4657371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72C08-5277-4B2D-85DF-67E7410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8D9A1-775A-4A5F-835C-97B5BC2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6DBF7-3446-47D3-A0E5-7DD815A2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4D38C-E8B0-4E0E-A5BA-05821D8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20DE2-E392-4318-A904-B2BE0A8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9B7E-EA46-4316-A490-DF13D6B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7C7D7-2D92-4BE8-8B43-B7FF06A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6CE20-EC8D-4876-90B6-C9CFA2A3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EBD8F-94FA-41CD-8954-CBDD4003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002ED-8616-448B-8A33-5E3C872B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C205B-77EC-4A7A-A9BD-4BB71187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AE33B-C119-4D60-AD6C-2686D9D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D4BFE-A7C4-4DF4-B7BD-BEE005C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68968-C702-49C4-821E-7F362234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0ACA1-98B1-40DD-B32B-2DEEB8C8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F2306-EBDC-4FC7-974E-437CC8F7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9A4-7495-4664-81C4-7773247F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CE7-57FF-4076-8AFD-F4769B5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1C0FD-18B4-4A84-BBC6-5D30F1D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26DB0-2564-4DB0-A580-B4F7253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0724B-67EF-425F-98F9-B33F840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4D797-4AB0-4EF6-8628-58B1F0E2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05CEC-7B55-4B38-9998-B4965945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831D1-5380-4534-9291-967124A8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82BD4-0320-4F97-92D7-D6CFA599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50DFF-088F-4F3B-AD99-DEBDB77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F4435-3499-4556-AC1A-A06B96C7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ECFFF-0860-4FA6-8F95-56284AF5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7EFB-823B-45F5-B0C5-8C0B68C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E3FDD-271C-4A78-906C-B5B653E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12308-2837-4AAD-B188-0C8448E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8A57D-C427-4824-956F-5811D14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A441E-3C36-415D-9380-D508778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8D1DA-ED93-4129-8ED7-0B33C5A0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6ACAB-0343-46C5-8802-000D98A2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3E2D0-DA90-4862-AB39-F3C5960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C6316-ABA0-44BC-ABAC-70D712D8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8AC2A-B084-4808-B4E2-57507B5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5FA85-0A47-4110-B5F5-A699191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542-5FEC-4BED-8F9A-A04CAC2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3764D-E94C-4A7D-B1F6-83A8D645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92771-FBD9-477F-9FBF-EEA957D9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76167-6029-4C55-8ED0-A3121B5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329B4-4988-4B99-A453-8D77183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EA806-1DDF-429F-951E-CF47842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3A9DF-5336-4616-9F49-8AE172A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7A38B-0F9E-49F5-BA25-536E168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7B7D0-2078-44AC-85D2-3A4544C9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FBAB8-8BCF-4DB6-B0BB-48CA1873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B6DF0-E984-49C0-B108-91DD9A09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247C-B82C-4EC6-A0B3-8B385D84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35FD2-D769-43D1-AB98-54B883B1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36496-7C02-406E-B58D-5ADC9F2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9F0F9-4FC2-4093-96E7-C586290F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056B9-2F6A-4FE7-9306-C6636F1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3D928-2828-4445-958A-3B5C1F4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6488C-C5CA-4023-94E3-DAA7C75F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3428C-017C-4E3A-ADDE-F5F38F5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C1FA1-C6C2-4677-9B0A-4D28D5F1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75AA9-7DA3-4B37-AE5A-7B12BB7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67FAA-A2E7-43B0-BB81-246507D9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A94-3C23-45C3-8B0F-8971C74D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65797-0747-4AB8-B7CD-03AA79C4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B014D-0A83-42A2-8AE6-6FE09922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9E025-7938-4E32-8F2B-DBBDE30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46D41-0EC4-4CFC-B726-CCA95FDA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5E08F-2214-4D64-BCAE-6114C768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AFF1D-2FE0-41F2-9BC3-9706642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D460C-4DF0-4CA6-AA58-931F09DC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5CB39-700D-4C72-843F-9307034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EC392-17C3-40D2-A0A1-5CDE9E9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F1179-2B15-4A8B-9CE1-5638EA6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6ECF3-A40F-4BA4-A89D-D834AAB5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890F8-250D-4A5D-A9DA-29771526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6E97A-9C02-4DDC-B93A-3EAD9D3A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1C5-13F2-4128-ABB7-673CF78A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1573-8FEB-4CED-A49D-0DD1449B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62EA-6D88-4CC3-98FE-22B88E72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4AFB-2399-4921-9F9D-52E37D80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C14-4EBD-4D97-927B-757674A1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2D17-6558-4831-AF1C-F681C1B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0CA1-80E1-44A0-ADA6-A4434A2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BE22-0A38-49FF-BAD0-8F98897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C8F0-A066-46BA-A150-3FE6B9A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0ACD-2E72-4EE4-A346-FAB94CD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240D-1244-4A02-8C37-3F990AD2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49A4-9B2D-4870-9C02-4FD135F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0CFC-7B0A-47D2-A1E2-DE0BF73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5B5D-AE11-4675-98D0-62DB506D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5229-2458-44C5-BC56-EB08E3A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E76-0723-4D41-8282-B9985C75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C414-81C8-43E6-8171-FE578795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9D76A-6B88-408C-A50B-088BF74D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5325-E15B-4CCE-AD1B-4C62C29F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E734-1C39-4456-B376-6CFC723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7AD0-A37F-4961-BBD7-CF8D492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15EE-35AA-473C-A970-25958C5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230A-E42D-495D-BDF8-1E2EC7A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CBF8-BF62-48D5-8A1D-1E8990A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2A41-3CBF-4B1D-9903-1AC345D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83ED-F96B-440A-BC5B-445C09EE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6DD-0C02-48ED-8B4D-57B153C5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4CB7-1CC9-47B3-8449-F42F6E94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5DF1-FC75-4D50-96CE-188CAF88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B4F5-134F-4347-913E-E537A74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9C59-DD3B-4201-9806-0102581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3059-9FF7-4105-A3D5-23D2B74F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1E08-3A3C-4EE9-99B7-A1E3C8C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6179-963E-4329-A747-98CC9CF0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AACC-4147-4396-83F2-C12254D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9C09-8D0D-4E4D-AD76-7211F2B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853E4-1C9F-4179-8163-71E0232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0A7-CE53-4A8C-91C5-4F1B667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338B-D1A8-42F7-98FE-670FA93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457F-6B1E-4FCB-BFE9-1F3F3158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66D1-BC22-4FB5-846C-670813A2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28AC-D71F-448E-B43A-8FE41E9C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10D3-A303-4424-8AAB-3EB5723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1FBC-5626-4E9F-8C3A-A6F6D1C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BF59-DF4B-453D-853C-268ACF23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AA7E-9B63-452A-AB58-51FCB5D1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9EB1-C21F-48E7-BBEF-601E10CB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547C-44AE-472F-BA18-E408272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2BF-8893-48E1-AE8D-B62AF25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980A-C02B-4685-AA9F-A5488D4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E6AB-6C73-42C8-9A34-4C58311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1201-39BC-4314-88A1-34C187E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7531-4273-489F-B41A-BB97D255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54EB-7AA4-426D-932F-5D33640E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BE7A-2917-41AF-ADD1-8BEA2B77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7DBCA-AA7E-489D-B7E1-53CA4875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F5D6-F51B-472D-8317-E79179E9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44EF1-4899-44DA-B37D-77D09BE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0A9F-46E1-4039-B3BA-F227580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069-5E7F-47AC-98C3-F94C637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AF20B-3B09-451A-94B3-F93DF55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8DA5-F38A-4C57-B8CB-4964767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1E3B-D06F-4AAB-A5B4-F899A35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D62E-481B-47C7-948C-6859CD8C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3309-A804-4899-AF52-F20C70A8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745A-3D9D-4EAC-9892-EA00DAA3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31E44-E743-45BE-A539-7CF93341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C050-9E5D-4E59-A13A-7D8FDECA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5AE5-39A6-462C-8E02-687C3F8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043D-3640-4B06-9400-DCB6072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A79F-19E8-47C1-B8A8-4B03E3D0F6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50B-A6DC-488F-8BBA-4A35D1AFD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D55-50F1-41CA-B6DF-A7A8E39F7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E7B0-28D5-49A0-AA2F-E25527B5C2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A1CA-313D-4785-9B6C-37EAAA312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241-1CE4-495A-9F21-98B12B989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ABA-3937-4676-A0DF-43C049908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569-0514-4ECD-B64B-B84827B7C6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43F-86DC-449E-A742-34BC4355C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0975-5EC6-4E01-A672-EFFB05E11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803-B537-4C16-8611-A57FA8A73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CDA5-6CA3-487F-AFB9-6650D4051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9DF-6544-4905-80FA-F3A50D0BC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6899-73F6-4550-81FF-120F750D2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D80D-428F-432B-BA1C-3074923A0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49F-1C93-4223-9C97-47468B5D6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6C5A-84FE-4139-94BB-D8EAFD2D4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17D-7E43-4B41-9E55-F1D54305A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E27-D8A2-4ECD-9CDC-B8562B8C4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0CF-EFC0-4475-9150-11B26E1062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FC9E-4802-47C2-93EB-C600CEE14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2628-A6E2-44CC-A0B4-4BB77331A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43D-8B6D-4A57-B559-451942E87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D57-A867-47BB-A71D-1831B1BE4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363B-CD11-4F5E-814D-23EDE82FE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5721-0435-46D4-9DAC-F4396D4AA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863-D11B-4EA3-935C-A0755AD51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43F1-5686-44EE-A5A6-202A31173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A95B-E115-42BB-9F1F-C439CA61B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428-698A-4112-A33F-B533ACC1E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0598-045F-477E-B9AD-E47C8E01E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8FF-0533-4199-A61A-50486D328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8A6-F255-45BC-B02E-E05727F1F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B6A8-021C-4668-B2FA-E0E07F6B7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B7C-BEA6-42FF-BE90-222CABE7A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83B-D762-430C-99F8-9242348E7E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BD59-BAF0-4744-8254-5E9B0FA48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CA54-B344-420B-B8B7-824BB2DC2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5468-92F7-4823-B253-D54F10BC4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00360" y="2181240"/>
            <a:ext cx="3743280" cy="12477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314280" y="3543480"/>
            <a:ext cx="85154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3" name="组合 13315"/>
          <p:cNvGrpSpPr/>
          <p:nvPr/>
        </p:nvGrpSpPr>
        <p:grpSpPr>
          <a:xfrm>
            <a:off x="250920" y="189000"/>
            <a:ext cx="8488440" cy="6553080"/>
            <a:chOff x="250920" y="189000"/>
            <a:chExt cx="8488440" cy="6553080"/>
          </a:xfrm>
        </p:grpSpPr>
        <p:pic>
          <p:nvPicPr>
            <p:cNvPr id="1074" name="图片 13313" descr=""/>
            <p:cNvPicPr/>
            <p:nvPr/>
          </p:nvPicPr>
          <p:blipFill>
            <a:blip r:embed="rId1"/>
            <a:stretch/>
          </p:blipFill>
          <p:spPr>
            <a:xfrm>
              <a:off x="404640" y="932040"/>
              <a:ext cx="8334720" cy="58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图片 13314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5533920" cy="63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4337" descr=""/>
          <p:cNvPicPr/>
          <p:nvPr/>
        </p:nvPicPr>
        <p:blipFill>
          <a:blip r:embed="rId1"/>
          <a:stretch/>
        </p:blipFill>
        <p:spPr>
          <a:xfrm>
            <a:off x="538200" y="1233360"/>
            <a:ext cx="8067600" cy="4391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914400" y="1324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309600" y="1405080"/>
            <a:ext cx="8524800" cy="40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4356000" y="479736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236000" y="481176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图片 21505" descr=""/>
          <p:cNvPicPr/>
          <p:nvPr/>
        </p:nvPicPr>
        <p:blipFill>
          <a:blip r:embed="rId1"/>
          <a:stretch/>
        </p:blipFill>
        <p:spPr>
          <a:xfrm>
            <a:off x="1700280" y="1957320"/>
            <a:ext cx="5743440" cy="2943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2556000" y="4362480"/>
            <a:ext cx="93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5219640" y="4349880"/>
            <a:ext cx="1728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0481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039080" cy="5981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835280" y="54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1328760" y="1771560"/>
            <a:ext cx="6486480" cy="3314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9217" descr=""/>
          <p:cNvPicPr/>
          <p:nvPr/>
        </p:nvPicPr>
        <p:blipFill>
          <a:blip r:embed="rId1"/>
          <a:stretch/>
        </p:blipFill>
        <p:spPr>
          <a:xfrm>
            <a:off x="157320" y="785880"/>
            <a:ext cx="8829360" cy="5286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3780000" y="4394160"/>
            <a:ext cx="6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6732720" y="530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2" name="组合 10243"/>
          <p:cNvGrpSpPr/>
          <p:nvPr/>
        </p:nvGrpSpPr>
        <p:grpSpPr>
          <a:xfrm>
            <a:off x="539640" y="1628640"/>
            <a:ext cx="8056800" cy="3235320"/>
            <a:chOff x="539640" y="1628640"/>
            <a:chExt cx="8056800" cy="3235320"/>
          </a:xfrm>
        </p:grpSpPr>
        <p:pic>
          <p:nvPicPr>
            <p:cNvPr id="1053" name="图片 10241" descr=""/>
            <p:cNvPicPr/>
            <p:nvPr/>
          </p:nvPicPr>
          <p:blipFill>
            <a:blip r:embed="rId1"/>
            <a:stretch/>
          </p:blipFill>
          <p:spPr>
            <a:xfrm>
              <a:off x="547560" y="1628640"/>
              <a:ext cx="804888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图片 10242" descr=""/>
            <p:cNvPicPr/>
            <p:nvPr/>
          </p:nvPicPr>
          <p:blipFill>
            <a:blip r:embed="rId2"/>
            <a:stretch/>
          </p:blipFill>
          <p:spPr>
            <a:xfrm>
              <a:off x="539640" y="4168800"/>
              <a:ext cx="4848480" cy="69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262728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867280" y="347184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619280" y="4292640"/>
            <a:ext cx="93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2289" descr=""/>
          <p:cNvPicPr/>
          <p:nvPr/>
        </p:nvPicPr>
        <p:blipFill>
          <a:blip r:embed="rId1"/>
          <a:stretch/>
        </p:blipFill>
        <p:spPr>
          <a:xfrm>
            <a:off x="128520" y="955800"/>
            <a:ext cx="8886960" cy="52099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4211640" y="293832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4643280" y="471024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1476360" y="5575320"/>
            <a:ext cx="1150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1265" descr=""/>
          <p:cNvPicPr/>
          <p:nvPr/>
        </p:nvPicPr>
        <p:blipFill>
          <a:blip r:embed="rId1"/>
          <a:stretch/>
        </p:blipFill>
        <p:spPr>
          <a:xfrm>
            <a:off x="452520" y="855720"/>
            <a:ext cx="8238960" cy="5886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3348000" y="2679840"/>
            <a:ext cx="266400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1547640" y="357336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5076720" y="5330880"/>
            <a:ext cx="338292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116000" y="620856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4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